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287-1FCA-446E-8620-C6F7715C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C8B-3E50-4679-902A-3B1F079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0D2-B27E-4ACE-9A8D-5C1FEECB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8F4-934A-4584-9A7B-89E1ABB4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8557-53C1-4FC3-95E6-11153A5E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BCB6-8C3B-4748-B72C-D82C634A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FED0-43D6-46E3-B6B6-6B35AF51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8C59-240C-4BA8-BFF3-6ADBA556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C81B-8F91-4B11-9BFB-F1F89BC7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6C5D-9006-49A4-B2AC-FE812407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E840-B047-41FF-8CA6-C26D75BD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B6B-B203-4236-908E-1C1EC21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CA47-F1B0-4C90-9549-473C7461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1FB6-A8CE-41F1-9F6B-C3668776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7541-1470-4200-8A9C-F8A4D328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57E5-6A4E-4105-9F5E-973238B1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2749-79D4-4739-8D85-A37956D7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5A076-945F-4AD5-854E-C356DF2D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BF633-84EC-47EB-BEAC-2F3C0B06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269DC-E615-40BF-A6D8-857E7607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90BB5-5887-4104-8667-B3366250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7CD9C-91DE-4B18-9904-664673A8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E90-6A97-438F-9A47-FAEF80BA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87F4F-A725-45A6-A1ED-4C98D095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3B899-7006-466B-AC7E-5FF2306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2E54B-8374-4708-B69A-72A4D7AA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F0C79-17F6-4789-915B-ADF20AA8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4DE46-4F39-421A-8A08-09EF0109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F4B4E-C750-49BA-84EE-B4360787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75D5C-56A4-483E-A04C-1D838755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A47FE-3B8F-4F23-8826-E06A6233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61D41-6D49-4495-8654-7317244F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38211-9918-4FF3-BE89-69C8318F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536-8D4E-4A8A-B2D4-A609EC20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E7D91-DD43-41F7-B789-21839131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E0EFF-2F07-4A32-B70B-AD2678CF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9FAF7-FCDE-4059-8F8B-8A35FBC0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644B4-859B-46B8-AA44-7B2C23A9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23371-A318-4BBC-A165-793B5B4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DEE26-B376-4922-9C37-C848A98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4B417-2DE2-47AD-A98F-F02A1F9A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A9AE6-4186-41AC-86FC-AD9ECFC6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BC612-5E2D-4388-9EE0-C42014A1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6B3E7-F991-4DD2-98AA-3D3BD122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87E-95B3-4E47-B3AB-9614A8B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AEA92-D14A-4A02-B26E-88113996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1BD0E-D352-4008-9FD3-E1055D5A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C17BF-2B5C-4E3B-8C5D-50AD3FFE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30D2D-D454-48CE-912C-28F862E4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BF0F4-A2AC-42F2-A2AF-921C7D90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26DE1-3A80-4D5E-AD03-9CF21F8D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B3F3A-524A-42CC-BB8A-6FB69B96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05DF5-B12D-4B17-8A40-1833C22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A0DAC-9D0B-4342-9A44-D854121D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D2C57-CAF5-4E41-B3EC-B6F5DABE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49D-C563-4ECA-A427-BA4023EF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70271-3A09-4516-8F0E-3452CC50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5AEE-4E6E-4B3C-8788-574505A1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903D-A8EA-4D79-9016-56194F41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98FFB-0255-471E-82C7-4DA2C1BF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FAF50-B61E-4927-9E7F-2EB105C1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CEB3E-1C6E-4C0F-9B1F-52C3D117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17AB7-7C6C-4225-AD3F-8D9F3064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8F8A7-FC79-4F37-A729-BF2E8D18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73A53-C5C3-4981-A9F2-79C969BC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FEBF1-F99A-4D4E-B832-BD29F7A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552-023A-45A2-96B3-02F51A85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EFBF4-ED12-4F19-AF7C-C91BB644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C8543-23D8-4C7A-BC88-3771A269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7FD4D-7120-4252-8411-0E861227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772A5-34AB-4AD5-8201-44D82F27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DC913-D29D-4FA0-A201-87601913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52031-CBEC-4B96-A193-75E96A97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3AAA3-7E0D-4F5F-8BA0-1B827C0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5E461-1FDA-4576-A753-FCEB04C0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BF673-F3B6-49C3-B161-68BDDF6B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8F65F-E99C-4071-BF6B-27CBD3F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B05-9779-411E-8F6A-23756BD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62C67-64A0-4A59-91F5-A303A22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B6391-765C-49E6-A03C-72570720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1B811-1D9D-4502-957F-12801D40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A245B-3117-4484-87B2-317637F0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94421-9717-4721-AE06-41BF51E7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93294-1199-403E-A054-EF029AF5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C562E-70C2-43AB-BEC9-7530BFAA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5880E-D347-4805-8CD4-17C5CCF4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66200-47BD-49BE-A810-04E116BC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D697F-19B9-4EE8-8744-D996F55A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F1D-B2B9-46EC-9BCA-5CA59D8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F2C69-7699-4BB9-B830-BD3C4B9B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BFAD4-3B32-44E6-8F56-40371C0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D810C-2CBE-46F7-94C6-818AB6B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ADD71-6CEB-4D60-9A6F-0F66DE77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7BBDF-FE5E-4E57-B306-43F693A2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84D58-E39E-4C81-9D39-8BD79D2F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560ED-AE80-44E4-9288-8645E4B6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8018-0A64-4FE1-8341-4B65829EC9CE}" type="slidenum">
              <a:rPr b="1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B639-BA4B-4859-8EF0-8392A52A0804}" type="slidenum">
              <a:rPr b="1" lang="ca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1351-BA90-459A-8B78-595712EEC445}" type="slidenum">
              <a:rPr b="1" lang="ca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2529-8E67-4007-8EE8-8BB787CAC0A2}" type="slidenum">
              <a:rPr b="1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B503-6EA0-40DA-8297-61C32EBCC9C1}" type="slidenum">
              <a:rPr b="1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55A-5330-4C69-AFED-3FD66E57C1C3}" type="slidenum">
              <a:rPr b="1" lang="ca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C966-CCF5-4529-97CD-4DD27404FAB4}" type="slidenum">
              <a:rPr b="1" lang="ca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77D8-AA2E-406A-B66A-EB100A00E9E5}" type="slidenum">
              <a:rPr b="1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71840" y="499680"/>
            <a:ext cx="613872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bddc3"/>
                </a:solidFill>
                <a:latin typeface="Tw Cen MT"/>
              </a:rPr>
              <a:t>EDIP REI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ffffff"/>
                </a:solidFill>
                <a:latin typeface="Tw Cen MT"/>
              </a:rPr>
              <a:t>REFERENTS CLÀSSIC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Prole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1856880"/>
            <a:ext cx="38862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pareixen en escena el sacerdot, Edip i creon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s comunica la mort de “Layo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La esfinx adverteix als pres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Contenidor de contingut 6" descr="edipo.jpg"/>
          <p:cNvPicPr/>
          <p:nvPr/>
        </p:nvPicPr>
        <p:blipFill>
          <a:blip r:embed="rId1"/>
          <a:stretch/>
        </p:blipFill>
        <p:spPr>
          <a:xfrm>
            <a:off x="5143680" y="2324160"/>
            <a:ext cx="3200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pisodi 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pareix Edip parlant en el corife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quest sentencia el culpable de la mort de “Layo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ntra Tiresi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quest diu a Edip que ell mateix és el assassi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dip ho neg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pisodi I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Creonte explica als ciutadans que edip es el culpa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pareix Edip i l’acusa de voler guanyar-se al po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xplica la historia de la mort de “Layo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dip comença a recordar, i es compleixen tots els fe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Tw Cen MT"/>
              </a:rPr>
              <a:t>Creonte i Edi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Tw Cen MT"/>
              </a:rPr>
              <a:t>Entra Iocast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pisodi II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pareix un missatger que anuncia a Edip la mort del seu pare (no biològ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Aquest resulta ser el pastor que va arreplegar a Edip acabat de naix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s comença a aclarir el misteri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pisodio IV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l missatger conta tota la histor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Finalment, resulta complir-se l’orac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Ex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Un altre missatger apareix anunciant que Iocasta s’ha suïcida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Deprés es suïcida Edip arrentcant-se els ulls anteriorme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Contenidor de contingut 6" descr="edipo_re_freud_medaglia_telepatia.jpg"/>
          <p:cNvPicPr/>
          <p:nvPr/>
        </p:nvPicPr>
        <p:blipFill>
          <a:blip r:embed="rId1"/>
          <a:stretch/>
        </p:blipFill>
        <p:spPr>
          <a:xfrm>
            <a:off x="5429160" y="2428920"/>
            <a:ext cx="3143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Refer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Tw Cen MT"/>
              </a:rPr>
              <a:t>Aquesta tragedia dona peu a les pelicul.les d’enbolics familiars com poderosa Afrodita de Woody A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Contenidor de contingut 6" descr="6d7f25df4c3613dbb956656b95ce2fbc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38560" y="1450800"/>
            <a:ext cx="2676600" cy="9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775f55"/>
                </a:solidFill>
                <a:latin typeface="Tw Cen MT"/>
              </a:rPr>
              <a:t>Poderosa Afrod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l matrimoni protagonista decideix adoptar un xique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l pare decideix adoptiu decideix buscar la mare biològic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Finalment, acaben tenint un fill ju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900" spc="-1" strike="noStrike">
                <a:solidFill>
                  <a:srgbClr val="000000"/>
                </a:solidFill>
                <a:latin typeface="Tw Cen MT"/>
              </a:rPr>
              <a:t>Es deixa un final obert propi d’aquestes pelicul.l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5:54:24Z</dcterms:created>
  <dc:creator>Juli Ballester Sorribes</dc:creator>
  <dc:description/>
  <dc:language>en-US</dc:language>
  <cp:lastModifiedBy>Juli Ballester Sorribes</cp:lastModifiedBy>
  <dcterms:modified xsi:type="dcterms:W3CDTF">2010-04-18T21:26:12Z</dcterms:modified>
  <cp:revision>15</cp:revision>
  <dc:subject/>
  <dc:title>EDIP REI</dc:title>
</cp:coreProperties>
</file>